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6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1BF-57CA-4926-8783-2930899A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2B5-0A60-4D39-8A49-A5E832BF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B508B-4FD5-439C-96C5-17BD608D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036D2-7ECB-45B7-87F0-23053D35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C3503-0D19-479E-8160-8D859DC4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2D574-5161-4FB6-832C-065674D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CDE32-685F-4193-9D6E-F1DAFDAC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BA60B-FAB7-4D65-9974-59B48AA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60DBD-DD96-4796-B090-88CEDBA5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08481-D141-45AC-A24D-83508DC3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D07C6-78F0-4EA2-AB7B-D8B53FAD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672-CE55-4285-B1B5-C6A511CA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3E6-7DA3-42F7-A0D8-B9AAAB1F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9785-A810-4F7B-AAC6-BF9E8ECE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0A1B-8E92-425D-9450-B12D3522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058B-16CC-4BDB-8E63-F5D57852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7A74-22A2-4CD0-8A45-0DF18536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0AE5-4D8E-4B86-A83D-CDE3BE4D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4B87-167E-4893-8DA6-B2A9D180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F15D-4A2B-4562-AEE1-21EC33E7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3AC-B2E9-47EE-958F-86948A4C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744D-7A6D-4836-86E4-BBE654E4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76E0-AD1B-45D9-9D8D-FB873C2B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BADA-A074-4E0B-9C44-F2B24D95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F2D4-BC9D-4F21-9843-D8BD4EE9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0A93-D6BD-4D09-B8BB-982B289C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E8E1-42A1-4751-A6D2-7042DAF6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84E3-A1AE-43C8-93BE-BA93A19F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56A5-9993-45C7-A2D8-CD24D017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295F3-96D9-4D49-82E9-569C5D6E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0C83-A6AD-42BD-B6D5-D2E9AE3E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B3B-8643-4093-B200-B7151D36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1268-9590-4855-9C3A-E8E2E1C3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EA5A-C572-4983-BB49-BB06E82E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1FFB-50E6-43AF-B750-EB84ABE6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5D5D-0CA4-4736-9F43-6F924892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92F1-7400-4C83-AC8B-2A3E4BC8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C9E0-0A53-414D-B1D8-07CA7354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4B309-44FC-4566-AC87-D9DE7801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86F6-A1A3-419A-A3EA-4F1289DA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6C38-EAB4-4FD5-9848-BD83E9FE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9CE2C-CF45-41A0-B367-12ED1085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F61-7DF7-4CCD-8DA2-225777DB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DA180-DB44-48B7-AD6D-BCBC7791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227A-AB66-47AF-867A-FB7B0C13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BB23-2879-486A-8210-A9908E5D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8170B-72B3-4481-A4B4-63212B8D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A485-9A50-4534-AD0B-3B56BD86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1BE0D-B078-488D-980F-D2B2BA1E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ADC3-5ED9-4446-BC2B-CE6CAD84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D76DA-3A9B-4265-93C4-09D0E84C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2B7D-B797-4A07-BCB8-F1D2CE42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AC7E9-5474-4DFF-A195-3CBE75A2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38A-52ED-49FC-B86D-A9EF4F99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572C-AC67-40C9-8926-7BBD38AF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14FDF-99BF-40D6-8605-F80520A5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C8862-EDA8-4D2C-B6D5-82948D51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16C3-1E81-45B7-8995-2349112D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17C84-90F5-45B6-BA5A-5921ABF0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5E832-4BF6-4A5D-9DA7-185364C0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AA766-157C-4174-AD24-B9CF461A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D4CFB-93D1-447F-BCC9-CB4C5D9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1DF11-A1E5-47A7-91DB-131A1DEA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94FB7-50A3-47B1-992D-6737EE7B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A65-581F-432B-A89D-1A020976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CD927-C269-4AA7-82C4-A21511D8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EBAF9-F3BC-4BF2-AF53-1E650F6B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08221-30E8-46AD-8B57-BD0DAFCF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EE9ED-6F57-4190-8160-8F29593A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C6351-63B4-42BD-99AE-A02069C1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A494E-6A79-468B-B317-F68D5C42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268CC-3E53-4E36-938E-3257AC9B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2AB93-55A3-4B96-923E-D2AF01B8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8D347-D9CF-4111-9E53-32A2489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9C4D-291E-4994-84BE-BE99CE4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7CA-2DFA-41C0-BBD5-57CFC8D8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7C0D6-A29B-48C3-80C4-2CA81AED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20C61-759A-48D6-B6EF-BAF1B499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3F4B4-F64E-4DD9-BEB2-7453EDC0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13627-3A76-4881-B875-93A5C4C5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4DFEE-6D78-48AE-BEA2-AC926B0F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079C0-6FF0-47DD-B364-BE7BC27C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3C82E-F873-40EE-9E11-03CB9577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16EC8-D11C-4EE3-A543-CA430C6A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FC97B-3264-45A1-93DA-57C7B2E1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DAA6-A7C5-4754-B2B2-1DBDCA0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796-76F9-4567-9EE5-894036E2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6FCC0-130A-459A-A9BD-5DD20CE1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1B86E-E8E0-4EA8-96AE-5ECD76C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16BA-8AE7-4553-9056-DB9C6C84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5C365-9FE8-46A2-854D-332B63F8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B72E1-C464-4156-9CB0-62DADD3C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B265A-6A7F-43CC-BFBA-8A5962EC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BF911-D4AB-4E09-B2BA-0B3F033C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AD856-FC77-4950-89B3-5834202B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D9B03-53E5-47C5-9BC7-B593F268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51224-65D3-4F33-8FAC-19D12678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CD2-1552-4D61-B5A6-09BDD531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70AFD-1861-45FA-8443-195C1EC5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4D14D-8F82-4E13-9E34-D8888A11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724A2-7418-4E5B-BA2A-F4AC8149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9812D-BE13-45C7-8AED-5C6802B9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2F211-5808-4A60-952A-B9B15B95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1D715-0862-465F-A247-C60BE211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D5B3C-FEAA-4685-9D6B-726A490D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580C3-BB7E-4B06-9EDE-D1D85C13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0655F-E098-4631-957D-795543C4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B8B98-F5B3-49CE-B6FF-70E2F084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0D48-3A62-416C-A696-1E9276B5F54C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C50D-947D-4027-970F-6CB141D05A28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297-59A5-4A90-BC1C-F6A3D132261F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E395-57A5-4384-90B0-EE990C76A80E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E0F5-4501-45FC-A714-A8FEA484CE03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7E4B-4058-40B1-8E32-27E076C26C5E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C8EB-1125-4A17-8897-92B21D3C92EF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2350-9F8B-4236-8577-B9250CDBA4B1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CC75-1FBF-4F13-87A9-388937DC249D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www.urjc.es/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www.ucm.es/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upm.es/" TargetMode="External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1 Título" descr=""/>
          <p:cNvPicPr/>
          <p:nvPr/>
        </p:nvPicPr>
        <p:blipFill>
          <a:blip r:embed="rId1"/>
          <a:stretch/>
        </p:blipFill>
        <p:spPr>
          <a:xfrm>
            <a:off x="171360" y="23760"/>
            <a:ext cx="8801280" cy="2786040"/>
          </a:xfrm>
          <a:prstGeom prst="rect">
            <a:avLst/>
          </a:prstGeom>
          <a:ln w="0">
            <a:noFill/>
          </a:ln>
        </p:spPr>
      </p:pic>
      <p:sp>
        <p:nvSpPr>
          <p:cNvPr id="400" name="19 CuadroTexto"/>
          <p:cNvSpPr/>
          <p:nvPr/>
        </p:nvSpPr>
        <p:spPr>
          <a:xfrm>
            <a:off x="1476360" y="5589720"/>
            <a:ext cx="655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áster Oficial en Restauración de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2009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Isabel Prad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2" descr="escudo_UAH"/>
          <p:cNvPicPr/>
          <p:nvPr/>
        </p:nvPicPr>
        <p:blipFill>
          <a:blip r:embed="rId2"/>
          <a:stretch/>
        </p:blipFill>
        <p:spPr>
          <a:xfrm>
            <a:off x="539640" y="4221000"/>
            <a:ext cx="1143000" cy="454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02" name="Picture 8" descr="Universidad Rey Juan Carlos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2708280"/>
            <a:ext cx="1285920" cy="44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03" name="Picture 12" descr="Logotipo de la UCM, pulse para acceder a la página princip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2781360"/>
            <a:ext cx="1222200" cy="469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04" name="Picture 15" descr="UP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80360" y="3933720"/>
            <a:ext cx="606240" cy="63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05" name="Picture 2" descr="cordovilla_enp_foto5"/>
          <p:cNvPicPr/>
          <p:nvPr/>
        </p:nvPicPr>
        <p:blipFill>
          <a:blip r:embed="rId9"/>
          <a:stretch/>
        </p:blipFill>
        <p:spPr>
          <a:xfrm>
            <a:off x="2340000" y="2565360"/>
            <a:ext cx="39546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60" name="3 CuadroTexto"/>
          <p:cNvSpPr/>
          <p:nvPr/>
        </p:nvSpPr>
        <p:spPr>
          <a:xfrm>
            <a:off x="971640" y="1208160"/>
            <a:ext cx="7777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Importancia del “Saladar de Cordovi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Fragmentación de las dos Áreas Críticas descritas en el Plan de Recuperación (desconexión con el núcleo poblacional Casa Sisc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Tasa finita de crecimiento del núcleo de Cordovilla decre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Probabilidad de extinción del núcleo poblacional de Cordovilla de un 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PORN conservar los hábitat pertenecientes a la Directiva 79/409/CEE (LIC “Saladar de Cordovilla y Agramón y Laguna de Alboraj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Plan de Recuperación : “garantizar la conservación y recuperación de la población y hábitat del endemismo Ibérico considerando la necesidad de llevar a cabo un programa de Restitu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62" name="4 CuadroTexto"/>
          <p:cNvSpPr/>
          <p:nvPr/>
        </p:nvSpPr>
        <p:spPr>
          <a:xfrm>
            <a:off x="900000" y="14842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Franklin Gothic Book"/>
              </a:rPr>
              <a:t>Reintroducción</a:t>
            </a: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Franklin Gothic Book"/>
              </a:rPr>
              <a:t>Vs.</a:t>
            </a: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Franklin Gothic Book"/>
              </a:rPr>
              <a:t>Reforz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2"/>
          <a:stretch/>
        </p:blipFill>
        <p:spPr>
          <a:xfrm>
            <a:off x="1584360" y="2349360"/>
            <a:ext cx="6191280" cy="4102200"/>
          </a:xfrm>
          <a:prstGeom prst="rect">
            <a:avLst/>
          </a:prstGeom>
          <a:ln w="0">
            <a:noFill/>
          </a:ln>
        </p:spPr>
      </p:pic>
      <p:sp>
        <p:nvSpPr>
          <p:cNvPr id="464" name="8 Elipse"/>
          <p:cNvSpPr/>
          <p:nvPr/>
        </p:nvSpPr>
        <p:spPr>
          <a:xfrm>
            <a:off x="1619280" y="1268280"/>
            <a:ext cx="2808360" cy="108108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0 Conector recto"/>
          <p:cNvSpPr/>
          <p:nvPr/>
        </p:nvSpPr>
        <p:spPr>
          <a:xfrm>
            <a:off x="4680000" y="1484280"/>
            <a:ext cx="3132000" cy="64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11 Conector recto"/>
          <p:cNvSpPr/>
          <p:nvPr/>
        </p:nvSpPr>
        <p:spPr>
          <a:xfrm flipH="1">
            <a:off x="4679640" y="1483560"/>
            <a:ext cx="3205080" cy="585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14 Elipse"/>
          <p:cNvSpPr/>
          <p:nvPr/>
        </p:nvSpPr>
        <p:spPr>
          <a:xfrm>
            <a:off x="3995640" y="4292640"/>
            <a:ext cx="216000" cy="216000"/>
          </a:xfrm>
          <a:prstGeom prst="ellipse">
            <a:avLst/>
          </a:prstGeom>
          <a:solidFill>
            <a:srgbClr val="f9daa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5 CuadroTexto"/>
          <p:cNvSpPr/>
          <p:nvPr/>
        </p:nvSpPr>
        <p:spPr>
          <a:xfrm>
            <a:off x="34920" y="3208320"/>
            <a:ext cx="2160720" cy="368280"/>
          </a:xfrm>
          <a:prstGeom prst="rect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Criterio Hist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16 Rectángulo"/>
          <p:cNvSpPr/>
          <p:nvPr/>
        </p:nvSpPr>
        <p:spPr>
          <a:xfrm>
            <a:off x="7074000" y="3208320"/>
            <a:ext cx="2070000" cy="642600"/>
          </a:xfrm>
          <a:prstGeom prst="rect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Criterio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17 Rectángulo"/>
          <p:cNvSpPr/>
          <p:nvPr/>
        </p:nvSpPr>
        <p:spPr>
          <a:xfrm>
            <a:off x="7039440" y="5013360"/>
            <a:ext cx="2139120" cy="368280"/>
          </a:xfrm>
          <a:prstGeom prst="rect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Criterio Logí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8 Rectángulo"/>
          <p:cNvSpPr/>
          <p:nvPr/>
        </p:nvSpPr>
        <p:spPr>
          <a:xfrm>
            <a:off x="240840" y="5013360"/>
            <a:ext cx="1748880" cy="368280"/>
          </a:xfrm>
          <a:prstGeom prst="rect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Criterio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1 Título" descr=""/>
          <p:cNvPicPr/>
          <p:nvPr/>
        </p:nvPicPr>
        <p:blipFill>
          <a:blip r:embed="rId1"/>
          <a:stretch/>
        </p:blipFill>
        <p:spPr>
          <a:xfrm>
            <a:off x="298440" y="35388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473" name="3 CuadroTexto"/>
          <p:cNvSpPr/>
          <p:nvPr/>
        </p:nvSpPr>
        <p:spPr>
          <a:xfrm>
            <a:off x="144360" y="1052640"/>
            <a:ext cx="88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Objetivo general: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Minimizar el riesgo de extinción como puesta en marcha de los procesos básicos de establecimiento, reproducción y dispersión alcanzando una población autosostenible y la no fragmentación de las Áreas Crít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2"/>
          <a:stretch/>
        </p:blipFill>
        <p:spPr>
          <a:xfrm>
            <a:off x="534960" y="2478240"/>
            <a:ext cx="8074080" cy="419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5" name="5 CuadroTexto"/>
          <p:cNvSpPr/>
          <p:nvPr/>
        </p:nvSpPr>
        <p:spPr>
          <a:xfrm>
            <a:off x="250920" y="2060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Objetiv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266760" y="214200"/>
            <a:ext cx="8697960" cy="2351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77" name="10 Grupo"/>
          <p:cNvGrpSpPr/>
          <p:nvPr/>
        </p:nvGrpSpPr>
        <p:grpSpPr>
          <a:xfrm>
            <a:off x="900000" y="2781360"/>
            <a:ext cx="4319640" cy="3887640"/>
            <a:chOff x="900000" y="2781360"/>
            <a:chExt cx="4319640" cy="3887640"/>
          </a:xfrm>
        </p:grpSpPr>
        <p:sp>
          <p:nvSpPr>
            <p:cNvPr id="478" name="8 Elipse"/>
            <p:cNvSpPr/>
            <p:nvPr/>
          </p:nvSpPr>
          <p:spPr>
            <a:xfrm>
              <a:off x="900000" y="2781360"/>
              <a:ext cx="4319640" cy="388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9 Elipse"/>
            <p:cNvGrpSpPr/>
            <p:nvPr/>
          </p:nvGrpSpPr>
          <p:grpSpPr>
            <a:xfrm>
              <a:off x="1328760" y="4779360"/>
              <a:ext cx="3060360" cy="1828800"/>
              <a:chOff x="1328760" y="4779360"/>
              <a:chExt cx="3060360" cy="1828800"/>
            </a:xfrm>
          </p:grpSpPr>
          <p:pic>
            <p:nvPicPr>
              <p:cNvPr id="480" name="9 Elipse" descr=""/>
              <p:cNvPicPr/>
              <p:nvPr/>
            </p:nvPicPr>
            <p:blipFill>
              <a:blip r:embed="rId2"/>
              <a:stretch/>
            </p:blipFill>
            <p:spPr>
              <a:xfrm>
                <a:off x="1328760" y="4779360"/>
                <a:ext cx="3060360" cy="18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 rot="747000">
                <a:off x="1832040" y="5100840"/>
                <a:ext cx="206064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Núcleo 1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1000 Individu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1000 m</a:t>
                </a:r>
                <a:r>
                  <a:rPr b="0" lang="es-ES" sz="1800" spc="-1" strike="noStrike" baseline="30000">
                    <a:solidFill>
                      <a:srgbClr val="ffffff"/>
                    </a:solidFill>
                    <a:latin typeface="Franklin Gothic Book"/>
                  </a:rPr>
                  <a:t>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10 Elipse"/>
            <p:cNvGrpSpPr/>
            <p:nvPr/>
          </p:nvGrpSpPr>
          <p:grpSpPr>
            <a:xfrm>
              <a:off x="3316320" y="3596400"/>
              <a:ext cx="1798200" cy="1706760"/>
              <a:chOff x="3316320" y="3596400"/>
              <a:chExt cx="1798200" cy="1706760"/>
            </a:xfrm>
          </p:grpSpPr>
          <p:pic>
            <p:nvPicPr>
              <p:cNvPr id="483" name="10 Elipse" descr=""/>
              <p:cNvPicPr/>
              <p:nvPr/>
            </p:nvPicPr>
            <p:blipFill>
              <a:blip r:embed="rId3"/>
              <a:stretch/>
            </p:blipFill>
            <p:spPr>
              <a:xfrm>
                <a:off x="3316320" y="3596400"/>
                <a:ext cx="1798200" cy="17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3653280" y="3866400"/>
                <a:ext cx="112716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Franklin Gothic Book"/>
                  </a:rPr>
                  <a:t>Núcleo 2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Franklin Gothic Book"/>
                  </a:rPr>
                  <a:t>650 I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Franklin Gothic Book"/>
                  </a:rPr>
                  <a:t>650m</a:t>
                </a:r>
                <a:r>
                  <a:rPr b="0" lang="es-ES" sz="1600" spc="-1" strike="noStrike" baseline="30000">
                    <a:solidFill>
                      <a:srgbClr val="ffffff"/>
                    </a:solidFill>
                    <a:latin typeface="Franklin Gothic Book"/>
                  </a:rPr>
                  <a:t>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11 Elipse"/>
            <p:cNvGrpSpPr/>
            <p:nvPr/>
          </p:nvGrpSpPr>
          <p:grpSpPr>
            <a:xfrm>
              <a:off x="1554120" y="3267360"/>
              <a:ext cx="1859400" cy="1225080"/>
              <a:chOff x="1554120" y="3267360"/>
              <a:chExt cx="1859400" cy="1225080"/>
            </a:xfrm>
          </p:grpSpPr>
          <p:pic>
            <p:nvPicPr>
              <p:cNvPr id="486" name="11 Elipse" descr=""/>
              <p:cNvPicPr/>
              <p:nvPr/>
            </p:nvPicPr>
            <p:blipFill>
              <a:blip r:embed="rId4"/>
              <a:stretch/>
            </p:blipFill>
            <p:spPr>
              <a:xfrm>
                <a:off x="1554120" y="3267360"/>
                <a:ext cx="185940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1900440" y="3465360"/>
                <a:ext cx="11718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Núcleo 3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350 I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350m</a:t>
                </a:r>
                <a:r>
                  <a:rPr b="0" lang="es-ES" sz="1800" spc="-1" strike="noStrike" baseline="30000">
                    <a:solidFill>
                      <a:srgbClr val="ffffff"/>
                    </a:solidFill>
                    <a:latin typeface="Franklin Gothic Book"/>
                  </a:rPr>
                  <a:t>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8" name="14 Grupo"/>
          <p:cNvGrpSpPr/>
          <p:nvPr/>
        </p:nvGrpSpPr>
        <p:grpSpPr>
          <a:xfrm>
            <a:off x="5580000" y="3730680"/>
            <a:ext cx="3286080" cy="2071080"/>
            <a:chOff x="5580000" y="3730680"/>
            <a:chExt cx="3286080" cy="2071080"/>
          </a:xfrm>
        </p:grpSpPr>
        <p:grpSp>
          <p:nvGrpSpPr>
            <p:cNvPr id="489" name="11 Grupo"/>
            <p:cNvGrpSpPr/>
            <p:nvPr/>
          </p:nvGrpSpPr>
          <p:grpSpPr>
            <a:xfrm>
              <a:off x="5580000" y="3730680"/>
              <a:ext cx="3286080" cy="1353600"/>
              <a:chOff x="5580000" y="3730680"/>
              <a:chExt cx="3286080" cy="1353600"/>
            </a:xfrm>
          </p:grpSpPr>
          <p:sp>
            <p:nvSpPr>
              <p:cNvPr id="490" name="8 CuadroTexto"/>
              <p:cNvSpPr/>
              <p:nvPr/>
            </p:nvSpPr>
            <p:spPr>
              <a:xfrm>
                <a:off x="5758560" y="3730680"/>
                <a:ext cx="292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Área total de reintroducción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: 2000m</a:t>
                </a:r>
                <a:r>
                  <a:rPr b="0" lang="es-ES" sz="1800" spc="-1" strike="noStrike" baseline="30000">
                    <a:solidFill>
                      <a:srgbClr val="000000"/>
                    </a:solidFill>
                    <a:latin typeface="Calibri"/>
                  </a:rPr>
                  <a:t> 2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 =0,2 H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9 CuadroTexto"/>
              <p:cNvSpPr/>
              <p:nvPr/>
            </p:nvSpPr>
            <p:spPr>
              <a:xfrm>
                <a:off x="5580000" y="4441680"/>
                <a:ext cx="3286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Individuos totales a reintroducir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: 2000 Individu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12 CuadroTexto"/>
            <p:cNvSpPr/>
            <p:nvPr/>
          </p:nvSpPr>
          <p:spPr>
            <a:xfrm>
              <a:off x="5580000" y="5159160"/>
              <a:ext cx="328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Densidad de individuos/ m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 2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1 Ind/m</a:t>
              </a:r>
              <a:r>
                <a:rPr b="0" lang="es-ES" sz="1800" spc="-1" strike="noStrike" baseline="30000">
                  <a:solidFill>
                    <a:srgbClr val="000000"/>
                  </a:solidFill>
                  <a:latin typeface="Calibri"/>
                </a:rPr>
                <a:t>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94" name="4 CuadroTexto"/>
          <p:cNvSpPr/>
          <p:nvPr/>
        </p:nvSpPr>
        <p:spPr>
          <a:xfrm>
            <a:off x="468360" y="1341360"/>
            <a:ext cx="46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2493  semillas recogidas de </a:t>
            </a:r>
            <a:r>
              <a:rPr b="1" i="1" lang="es-ES" sz="1800" spc="-1" strike="noStrike">
                <a:solidFill>
                  <a:srgbClr val="000000"/>
                </a:solidFill>
                <a:latin typeface="Franklin Gothic Book"/>
              </a:rPr>
              <a:t>in s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194 sem/d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Franklin Gothic Book"/>
              </a:rPr>
              <a:t> 2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2832 millones de sem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Número de genotipos: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Maxim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Tipo de individuos a reintroduc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lántulas (5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Reproductor 2 (15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" descr=""/>
          <p:cNvPicPr/>
          <p:nvPr/>
        </p:nvPicPr>
        <p:blipFill>
          <a:blip r:embed="rId2"/>
          <a:stretch/>
        </p:blipFill>
        <p:spPr>
          <a:xfrm>
            <a:off x="250920" y="3664080"/>
            <a:ext cx="4105080" cy="14205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2"/>
          <p:cNvSpPr/>
          <p:nvPr/>
        </p:nvSpPr>
        <p:spPr>
          <a:xfrm>
            <a:off x="4392720" y="3651120"/>
            <a:ext cx="47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atriz de tran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lase 4: mayor contribución a la repro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lase 4: mayor supervivencia de individuos adul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lase 2: poca superviv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3"/>
          <a:stretch/>
        </p:blipFill>
        <p:spPr>
          <a:xfrm>
            <a:off x="179280" y="5216400"/>
            <a:ext cx="4176720" cy="144936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4"/>
          <p:cNvSpPr/>
          <p:nvPr/>
        </p:nvSpPr>
        <p:spPr>
          <a:xfrm>
            <a:off x="4643280" y="553104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atriz de elast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lase 4: los más importantes para mantener la viabilidad de l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9 Elipse"/>
          <p:cNvSpPr/>
          <p:nvPr/>
        </p:nvSpPr>
        <p:spPr>
          <a:xfrm>
            <a:off x="5435640" y="1341360"/>
            <a:ext cx="3529080" cy="2232000"/>
          </a:xfrm>
          <a:prstGeom prst="ellipse">
            <a:avLst/>
          </a:prstGeom>
          <a:solidFill>
            <a:srgbClr val="0ea231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rado Guer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1,5 plantas/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Franklin Gothic Book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4,5 plántulas/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Franklin Gothic Book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529160" cy="259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1" name="Picture 3" descr=""/>
          <p:cNvPicPr/>
          <p:nvPr/>
        </p:nvPicPr>
        <p:blipFill>
          <a:blip r:embed="rId2"/>
          <a:stretch/>
        </p:blipFill>
        <p:spPr>
          <a:xfrm>
            <a:off x="5219640" y="135000"/>
            <a:ext cx="2181240" cy="358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2" name="Picture 4" descr=""/>
          <p:cNvPicPr/>
          <p:nvPr/>
        </p:nvPicPr>
        <p:blipFill>
          <a:blip r:embed="rId3"/>
          <a:stretch/>
        </p:blipFill>
        <p:spPr>
          <a:xfrm>
            <a:off x="71280" y="4221000"/>
            <a:ext cx="4500720" cy="256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3" name="Picture 5" descr=""/>
          <p:cNvPicPr/>
          <p:nvPr/>
        </p:nvPicPr>
        <p:blipFill>
          <a:blip r:embed="rId4"/>
          <a:stretch/>
        </p:blipFill>
        <p:spPr>
          <a:xfrm>
            <a:off x="4643280" y="4292640"/>
            <a:ext cx="4392720" cy="250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4" name="7 Rectángulo"/>
          <p:cNvSpPr/>
          <p:nvPr/>
        </p:nvSpPr>
        <p:spPr>
          <a:xfrm>
            <a:off x="144360" y="3716280"/>
            <a:ext cx="57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Tasa finita de crecimiento de la población (λ)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=</a:t>
            </a:r>
            <a:r>
              <a:rPr b="1" lang="es-ES" sz="1800" spc="-1" strike="noStrike">
                <a:solidFill>
                  <a:srgbClr val="0ea231"/>
                </a:solidFill>
                <a:latin typeface="Franklin Gothic Book"/>
              </a:rPr>
              <a:t>1,1034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8 CuadroTexto"/>
          <p:cNvSpPr/>
          <p:nvPr/>
        </p:nvSpPr>
        <p:spPr>
          <a:xfrm>
            <a:off x="826920" y="11592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MODELIZACIÓN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9 CuadroTexto"/>
          <p:cNvSpPr/>
          <p:nvPr/>
        </p:nvSpPr>
        <p:spPr>
          <a:xfrm>
            <a:off x="7451640" y="71604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MV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" sz="1800" spc="-1" strike="noStrike">
                <a:solidFill>
                  <a:srgbClr val="000000"/>
                </a:solidFill>
                <a:latin typeface="Franklin Gothic Book"/>
              </a:rPr>
              <a:t> Helianthemum juliae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(PMV=3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Ne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529160" cy="259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8" name="Picture 3" descr=""/>
          <p:cNvPicPr/>
          <p:nvPr/>
        </p:nvPicPr>
        <p:blipFill>
          <a:blip r:embed="rId2"/>
          <a:stretch/>
        </p:blipFill>
        <p:spPr>
          <a:xfrm>
            <a:off x="5219640" y="135000"/>
            <a:ext cx="2181240" cy="358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9" name="Picture 4" descr=""/>
          <p:cNvPicPr/>
          <p:nvPr/>
        </p:nvPicPr>
        <p:blipFill>
          <a:blip r:embed="rId3"/>
          <a:stretch/>
        </p:blipFill>
        <p:spPr>
          <a:xfrm>
            <a:off x="71280" y="4221000"/>
            <a:ext cx="4500720" cy="256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0" name="Picture 5" descr=""/>
          <p:cNvPicPr/>
          <p:nvPr/>
        </p:nvPicPr>
        <p:blipFill>
          <a:blip r:embed="rId4"/>
          <a:stretch/>
        </p:blipFill>
        <p:spPr>
          <a:xfrm>
            <a:off x="4643280" y="4292640"/>
            <a:ext cx="4392720" cy="250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1" name="7 Rectángulo"/>
          <p:cNvSpPr/>
          <p:nvPr/>
        </p:nvSpPr>
        <p:spPr>
          <a:xfrm>
            <a:off x="144360" y="3716280"/>
            <a:ext cx="57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Tasa finita de crecimiento de la población (λ)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=</a:t>
            </a:r>
            <a:r>
              <a:rPr b="1" lang="es-ES" sz="1800" spc="-1" strike="noStrike">
                <a:solidFill>
                  <a:srgbClr val="0ea231"/>
                </a:solidFill>
                <a:latin typeface="Franklin Gothic Book"/>
              </a:rPr>
              <a:t>1,1034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8 CuadroTexto"/>
          <p:cNvSpPr/>
          <p:nvPr/>
        </p:nvSpPr>
        <p:spPr>
          <a:xfrm>
            <a:off x="826920" y="11592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MODELIZACIÓN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9 CuadroTexto"/>
          <p:cNvSpPr/>
          <p:nvPr/>
        </p:nvSpPr>
        <p:spPr>
          <a:xfrm>
            <a:off x="7451640" y="71604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MV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Ne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" sz="1800" spc="-1" strike="noStrike">
                <a:solidFill>
                  <a:srgbClr val="000000"/>
                </a:solidFill>
                <a:latin typeface="Franklin Gothic Book"/>
              </a:rPr>
              <a:t> Helianthemum juliae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(Ne=3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10 Rectángulo"/>
          <p:cNvGrpSpPr/>
          <p:nvPr/>
        </p:nvGrpSpPr>
        <p:grpSpPr>
          <a:xfrm>
            <a:off x="738360" y="1249200"/>
            <a:ext cx="7308720" cy="4140360"/>
            <a:chOff x="738360" y="1249200"/>
            <a:chExt cx="7308720" cy="4140360"/>
          </a:xfrm>
        </p:grpSpPr>
        <p:pic>
          <p:nvPicPr>
            <p:cNvPr id="515" name="10 Rectángulo" descr=""/>
            <p:cNvPicPr/>
            <p:nvPr/>
          </p:nvPicPr>
          <p:blipFill>
            <a:blip r:embed="rId5"/>
            <a:stretch/>
          </p:blipFill>
          <p:spPr>
            <a:xfrm>
              <a:off x="738360" y="1249200"/>
              <a:ext cx="730872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55640" y="1268280"/>
              <a:ext cx="7272360" cy="41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IMPORTANTE ELIMINACIÓN DE LAS CAUSAS DE DECLIVE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Vallado perimetral</a:t>
              </a:r>
              <a:r>
                <a:rPr b="0" lang="es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 beneficiar Clase 4 y Clas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Riego de establecimiento y riego de mantenimiento</a:t>
              </a:r>
              <a:r>
                <a:rPr b="0" lang="es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 beneficiar Clas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2"/>
          <a:stretch/>
        </p:blipFill>
        <p:spPr>
          <a:xfrm>
            <a:off x="1793880" y="1571760"/>
            <a:ext cx="5586480" cy="466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2"/>
          <a:stretch/>
        </p:blipFill>
        <p:spPr>
          <a:xfrm>
            <a:off x="1403280" y="1990800"/>
            <a:ext cx="6669000" cy="345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22" name="3 CuadroTexto"/>
          <p:cNvSpPr/>
          <p:nvPr/>
        </p:nvSpPr>
        <p:spPr>
          <a:xfrm>
            <a:off x="826920" y="162864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edidas compleme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er condiciones favo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lecer causas de muerte para detectar posibles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hay dispersión: Programa de polinización contro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MV y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osición de mar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úsqueda de otros individu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lianthemum polygono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ir a todos los núcleos en el “Saladar de Cordovill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 de vigilancia para el Plan de Recu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aboración de infor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3 CuadroTexto"/>
          <p:cNvSpPr/>
          <p:nvPr/>
        </p:nvSpPr>
        <p:spPr>
          <a:xfrm>
            <a:off x="468360" y="1197000"/>
            <a:ext cx="849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 de la espe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calización geo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ble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dencia poblacional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stificación del programa de re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 de restitución y jus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ón del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ización demo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imiento y monitor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1 Título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97960" cy="1152720"/>
          </a:xfrm>
          <a:prstGeom prst="rect">
            <a:avLst/>
          </a:prstGeom>
          <a:ln w="0">
            <a:noFill/>
          </a:ln>
        </p:spPr>
      </p:pic>
      <p:sp>
        <p:nvSpPr>
          <p:cNvPr id="524" name="3 CuadroTexto"/>
          <p:cNvSpPr/>
          <p:nvPr/>
        </p:nvSpPr>
        <p:spPr>
          <a:xfrm>
            <a:off x="539640" y="944640"/>
            <a:ext cx="8353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rián Escudero &amp; José María Iriondo. “Restauración de poblaciones amenazadas”. Restauración de ecosistemas mediterráneos. Capítulo VI. 113-140.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 M. Pavik. “Demografic monitorin and recovery of endangered plants”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owler, M. y C. Whelin, editores. Recovery and restoration of endangered species: conceptual issues, planning, and implementation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mbriadge University Press, Cambriage. 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PETE CARREÑO, Miguel Ángel; FERRANDIS GOTOR, Pablo y HERRANZ SANZ, José Mañ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“Aspectos de la biología poblacional y reproductiva del endemismo vegetal albacetense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Helianthemum polygonoid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Resultados preliminares”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9-2 16.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pete, M.A., J.M. Herranz, P. Ferrandis &amp; J.J. Martínez-Sánchez. 2001a. “Efecto de la eliminación del pastoreo sobre el banco edáfico de semillas de la especie amenazada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Helianthemum polygonoide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inado &amp; al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istaceae)”. XII International Conference of the International Association of Botanic Gardens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órdoba, 18-24 de juni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creto 121/ 2006, de 12-12-2006, por el que se aprueba el Plan de Ordenación de los recursos naturales del Saladas de Cordovilla, en los términos municipales de Tobarra y Hellín de la provincia de Albacete, y se declara la reserva natural del Saladar de Cordovilla. Diario oficial de Castilla la Mancha. 27593-27606. Consejería de Medio Ambiente y Desarrollo Rural.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CRETO 167/2006, de 14 de noviembre, por el que se aprueba el Plan de Recuperación del Cardo de Plata (“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temmacantha cynaroid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”) y de la Jarilla de Cumbre (“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Helianthemum julia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cordovilla_enp_foto5"/>
          <p:cNvPicPr/>
          <p:nvPr/>
        </p:nvPicPr>
        <p:blipFill>
          <a:blip r:embed="rId1"/>
          <a:stretch/>
        </p:blipFill>
        <p:spPr>
          <a:xfrm>
            <a:off x="1835280" y="2276640"/>
            <a:ext cx="5689440" cy="3638520"/>
          </a:xfrm>
          <a:prstGeom prst="rect">
            <a:avLst/>
          </a:prstGeom>
          <a:ln w="0">
            <a:noFill/>
          </a:ln>
        </p:spPr>
      </p:pic>
      <p:sp>
        <p:nvSpPr>
          <p:cNvPr id="526" name="4 CuadroTexto"/>
          <p:cNvSpPr/>
          <p:nvPr/>
        </p:nvSpPr>
        <p:spPr>
          <a:xfrm>
            <a:off x="2268360" y="119700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3 CuadroTexto"/>
          <p:cNvSpPr/>
          <p:nvPr/>
        </p:nvSpPr>
        <p:spPr>
          <a:xfrm>
            <a:off x="684360" y="1125360"/>
            <a:ext cx="11509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ea231"/>
                </a:solidFill>
                <a:latin typeface="Franklin Gothic Book"/>
              </a:rPr>
              <a:t>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4 CuadroTexto"/>
          <p:cNvSpPr/>
          <p:nvPr/>
        </p:nvSpPr>
        <p:spPr>
          <a:xfrm>
            <a:off x="684360" y="5364000"/>
            <a:ext cx="18716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ea231"/>
                </a:solidFill>
                <a:latin typeface="Franklin Gothic Book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6 CuadroTexto"/>
          <p:cNvSpPr/>
          <p:nvPr/>
        </p:nvSpPr>
        <p:spPr>
          <a:xfrm>
            <a:off x="684360" y="1608120"/>
            <a:ext cx="727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Catálogo Regional de Especies Amenazadas de Castilla-La Mancha (Decreto 33/1998)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Franklin Gothic Book"/>
              </a:rPr>
              <a:t>En peligro de exti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Atlas y libro rojo de la Flora Vascular Amenaza de España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Franklin Gothic Book"/>
              </a:rPr>
              <a:t>En peligro crítico (B1 ab(iii)+2ab(iii)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Distribución geográfica reducida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xtensión de presencia &lt;100 k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Franklin Gothic Book"/>
                <a:ea typeface="Arial"/>
              </a:rPr>
              <a:t> 2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ragmentación severa: 1 única localidad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Disminución continua basada en área de extensión y/o calidad de hábitat (b(ii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Área de ocupación &lt;10 k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Franklin Gothic Book"/>
                <a:ea typeface="Arial"/>
              </a:rPr>
              <a:t> 2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ragmentación severa: 1 única localidad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Disminución continua basada en área de extensión y/o calidad de hábitat (b(ii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7 CuadroTexto"/>
          <p:cNvSpPr/>
          <p:nvPr/>
        </p:nvSpPr>
        <p:spPr>
          <a:xfrm>
            <a:off x="684360" y="5940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UICN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c00000"/>
                </a:solidFill>
                <a:latin typeface="Franklin Gothic Book"/>
              </a:rPr>
              <a:t> En peligro crítico (B1 ab(iii)+2ab(iii)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782640" y="1484280"/>
            <a:ext cx="2133720" cy="2508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ordovilla_enp_foto5"/>
          <p:cNvPicPr/>
          <p:nvPr/>
        </p:nvPicPr>
        <p:blipFill>
          <a:blip r:embed="rId3"/>
          <a:stretch/>
        </p:blipFill>
        <p:spPr>
          <a:xfrm>
            <a:off x="3276720" y="2924280"/>
            <a:ext cx="2519280" cy="1612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"/>
          <p:cNvPicPr/>
          <p:nvPr/>
        </p:nvPicPr>
        <p:blipFill>
          <a:blip r:embed="rId4"/>
          <a:stretch/>
        </p:blipFill>
        <p:spPr>
          <a:xfrm>
            <a:off x="3419640" y="4686480"/>
            <a:ext cx="2232000" cy="1834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"/>
          <p:cNvPicPr/>
          <p:nvPr/>
        </p:nvPicPr>
        <p:blipFill>
          <a:blip r:embed="rId5"/>
          <a:stretch/>
        </p:blipFill>
        <p:spPr>
          <a:xfrm>
            <a:off x="539640" y="4581360"/>
            <a:ext cx="2667240" cy="2067120"/>
          </a:xfrm>
          <a:prstGeom prst="rect">
            <a:avLst/>
          </a:prstGeom>
          <a:ln w="0">
            <a:noFill/>
          </a:ln>
        </p:spPr>
      </p:pic>
      <p:sp>
        <p:nvSpPr>
          <p:cNvPr id="418" name="8 CuadroTexto"/>
          <p:cNvSpPr/>
          <p:nvPr/>
        </p:nvSpPr>
        <p:spPr>
          <a:xfrm>
            <a:off x="3924360" y="1341360"/>
            <a:ext cx="50403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Altitud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: 500-6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Hábitat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: zonas despejadas de saladar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Biotopo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: Caméf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olinización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: Entomófila gener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Dispersión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: Mirmecóc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http://www.hormigas.org/xImagenes/Messor/Messor%20bouvieri/images/mboukg1224minlat.jpg"/>
          <p:cNvPicPr/>
          <p:nvPr/>
        </p:nvPicPr>
        <p:blipFill>
          <a:blip r:embed="rId6"/>
          <a:stretch/>
        </p:blipFill>
        <p:spPr>
          <a:xfrm>
            <a:off x="6156360" y="3429000"/>
            <a:ext cx="27414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193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34920" y="1724040"/>
            <a:ext cx="7129440" cy="4722840"/>
          </a:xfrm>
          <a:prstGeom prst="rect">
            <a:avLst/>
          </a:prstGeom>
          <a:ln w="0">
            <a:noFill/>
          </a:ln>
        </p:spPr>
      </p:pic>
      <p:sp>
        <p:nvSpPr>
          <p:cNvPr id="424" name="5 CuadroTexto"/>
          <p:cNvSpPr/>
          <p:nvPr/>
        </p:nvSpPr>
        <p:spPr>
          <a:xfrm>
            <a:off x="7524720" y="2060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Área de ocup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&lt; 16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7 CuadroTexto"/>
          <p:cNvSpPr/>
          <p:nvPr/>
        </p:nvSpPr>
        <p:spPr>
          <a:xfrm>
            <a:off x="7524720" y="495468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Saladar de Cordovilla”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294,61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3301920" cy="237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8" name="Picture 3" descr=""/>
          <p:cNvPicPr/>
          <p:nvPr/>
        </p:nvPicPr>
        <p:blipFill>
          <a:blip r:embed="rId3"/>
          <a:stretch/>
        </p:blipFill>
        <p:spPr>
          <a:xfrm>
            <a:off x="1547640" y="4581360"/>
            <a:ext cx="5705640" cy="172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2987640" y="2421000"/>
            <a:ext cx="3325680" cy="208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31" name="16 Grupo"/>
          <p:cNvGrpSpPr/>
          <p:nvPr/>
        </p:nvGrpSpPr>
        <p:grpSpPr>
          <a:xfrm>
            <a:off x="4500720" y="4581360"/>
            <a:ext cx="1949400" cy="2016360"/>
            <a:chOff x="4500720" y="4581360"/>
            <a:chExt cx="1949400" cy="2016360"/>
          </a:xfrm>
        </p:grpSpPr>
        <p:pic>
          <p:nvPicPr>
            <p:cNvPr id="432" name="Picture 4" descr=""/>
            <p:cNvPicPr/>
            <p:nvPr/>
          </p:nvPicPr>
          <p:blipFill>
            <a:blip r:embed="rId3"/>
            <a:stretch/>
          </p:blipFill>
          <p:spPr>
            <a:xfrm>
              <a:off x="4500720" y="5013360"/>
              <a:ext cx="19494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11 CuadroTexto"/>
            <p:cNvSpPr/>
            <p:nvPr/>
          </p:nvSpPr>
          <p:spPr>
            <a:xfrm>
              <a:off x="4611600" y="458136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Escomb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15 Grupo"/>
          <p:cNvGrpSpPr/>
          <p:nvPr/>
        </p:nvGrpSpPr>
        <p:grpSpPr>
          <a:xfrm>
            <a:off x="250920" y="4365720"/>
            <a:ext cx="3673440" cy="2205000"/>
            <a:chOff x="250920" y="4365720"/>
            <a:chExt cx="3673440" cy="2205000"/>
          </a:xfrm>
        </p:grpSpPr>
        <p:pic>
          <p:nvPicPr>
            <p:cNvPr id="435" name="Picture 5" descr=""/>
            <p:cNvPicPr/>
            <p:nvPr/>
          </p:nvPicPr>
          <p:blipFill>
            <a:blip r:embed="rId4"/>
            <a:stretch/>
          </p:blipFill>
          <p:spPr>
            <a:xfrm>
              <a:off x="250920" y="4789080"/>
              <a:ext cx="3673440" cy="17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12 CuadroTexto"/>
            <p:cNvSpPr/>
            <p:nvPr/>
          </p:nvSpPr>
          <p:spPr>
            <a:xfrm>
              <a:off x="815760" y="4365720"/>
              <a:ext cx="25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Caminos y carrete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14 Grupo"/>
          <p:cNvGrpSpPr/>
          <p:nvPr/>
        </p:nvGrpSpPr>
        <p:grpSpPr>
          <a:xfrm>
            <a:off x="6707160" y="4700520"/>
            <a:ext cx="2257560" cy="1897200"/>
            <a:chOff x="6707160" y="4700520"/>
            <a:chExt cx="2257560" cy="1897200"/>
          </a:xfrm>
        </p:grpSpPr>
        <p:pic>
          <p:nvPicPr>
            <p:cNvPr id="438" name="Picture 6" descr=""/>
            <p:cNvPicPr/>
            <p:nvPr/>
          </p:nvPicPr>
          <p:blipFill>
            <a:blip r:embed="rId5"/>
            <a:stretch/>
          </p:blipFill>
          <p:spPr>
            <a:xfrm>
              <a:off x="6707160" y="5046840"/>
              <a:ext cx="225756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13 CuadroTexto"/>
            <p:cNvSpPr/>
            <p:nvPr/>
          </p:nvSpPr>
          <p:spPr>
            <a:xfrm>
              <a:off x="7089840" y="4700520"/>
              <a:ext cx="149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Excav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19 Grupo"/>
          <p:cNvGrpSpPr/>
          <p:nvPr/>
        </p:nvGrpSpPr>
        <p:grpSpPr>
          <a:xfrm>
            <a:off x="560520" y="333360"/>
            <a:ext cx="1707840" cy="2016000"/>
            <a:chOff x="560520" y="333360"/>
            <a:chExt cx="1707840" cy="2016000"/>
          </a:xfrm>
        </p:grpSpPr>
        <p:pic>
          <p:nvPicPr>
            <p:cNvPr id="441" name="Picture 7" descr=""/>
            <p:cNvPicPr/>
            <p:nvPr/>
          </p:nvPicPr>
          <p:blipFill>
            <a:blip r:embed="rId6"/>
            <a:stretch/>
          </p:blipFill>
          <p:spPr>
            <a:xfrm>
              <a:off x="560520" y="670680"/>
              <a:ext cx="1707840" cy="16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18 CuadroTexto"/>
            <p:cNvSpPr/>
            <p:nvPr/>
          </p:nvSpPr>
          <p:spPr>
            <a:xfrm>
              <a:off x="619920" y="333360"/>
              <a:ext cx="15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Ca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22 Grupo"/>
          <p:cNvGrpSpPr/>
          <p:nvPr/>
        </p:nvGrpSpPr>
        <p:grpSpPr>
          <a:xfrm>
            <a:off x="6875640" y="395280"/>
            <a:ext cx="1873080" cy="1922400"/>
            <a:chOff x="6875640" y="395280"/>
            <a:chExt cx="1873080" cy="1922400"/>
          </a:xfrm>
        </p:grpSpPr>
        <p:pic>
          <p:nvPicPr>
            <p:cNvPr id="444" name="Picture 8" descr=""/>
            <p:cNvPicPr/>
            <p:nvPr/>
          </p:nvPicPr>
          <p:blipFill>
            <a:blip r:embed="rId7"/>
            <a:stretch/>
          </p:blipFill>
          <p:spPr>
            <a:xfrm>
              <a:off x="6875640" y="764640"/>
              <a:ext cx="1873080" cy="15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21 CuadroTexto"/>
            <p:cNvSpPr/>
            <p:nvPr/>
          </p:nvSpPr>
          <p:spPr>
            <a:xfrm>
              <a:off x="7019640" y="3952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Pastor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25 Grupo"/>
          <p:cNvGrpSpPr/>
          <p:nvPr/>
        </p:nvGrpSpPr>
        <p:grpSpPr>
          <a:xfrm>
            <a:off x="6732720" y="2676600"/>
            <a:ext cx="2087280" cy="1760400"/>
            <a:chOff x="6732720" y="2676600"/>
            <a:chExt cx="2087280" cy="1760400"/>
          </a:xfrm>
        </p:grpSpPr>
        <p:pic>
          <p:nvPicPr>
            <p:cNvPr id="447" name="Picture 10" descr="http://www.inia.cl/medios/semillas/triticales/aguacero2.jpg"/>
            <p:cNvPicPr/>
            <p:nvPr/>
          </p:nvPicPr>
          <p:blipFill>
            <a:blip r:embed="rId8"/>
            <a:stretch/>
          </p:blipFill>
          <p:spPr>
            <a:xfrm>
              <a:off x="6732720" y="3047760"/>
              <a:ext cx="208728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24 CuadroTexto"/>
            <p:cNvSpPr/>
            <p:nvPr/>
          </p:nvSpPr>
          <p:spPr>
            <a:xfrm>
              <a:off x="7052760" y="2676600"/>
              <a:ext cx="15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Cul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28 Grupo"/>
          <p:cNvGrpSpPr/>
          <p:nvPr/>
        </p:nvGrpSpPr>
        <p:grpSpPr>
          <a:xfrm>
            <a:off x="539640" y="2421000"/>
            <a:ext cx="1928880" cy="1981080"/>
            <a:chOff x="539640" y="2421000"/>
            <a:chExt cx="1928880" cy="1981080"/>
          </a:xfrm>
        </p:grpSpPr>
        <p:pic>
          <p:nvPicPr>
            <p:cNvPr id="450" name="Picture 12" descr="http://www.villadeayora.es/blog/wp-content/uploads/2009/10/rehabilitacion-casa-rectoral-f-goiriz-pantin-05-02-08-012.jpg"/>
            <p:cNvPicPr/>
            <p:nvPr/>
          </p:nvPicPr>
          <p:blipFill>
            <a:blip r:embed="rId9"/>
            <a:stretch/>
          </p:blipFill>
          <p:spPr>
            <a:xfrm>
              <a:off x="539640" y="2853000"/>
              <a:ext cx="192888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27 CuadroTexto"/>
            <p:cNvSpPr/>
            <p:nvPr/>
          </p:nvSpPr>
          <p:spPr>
            <a:xfrm>
              <a:off x="683640" y="242100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Edific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29 Flecha abajo"/>
          <p:cNvSpPr/>
          <p:nvPr/>
        </p:nvSpPr>
        <p:spPr>
          <a:xfrm>
            <a:off x="4500720" y="1197000"/>
            <a:ext cx="358560" cy="50328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30 CuadroTexto"/>
          <p:cNvSpPr/>
          <p:nvPr/>
        </p:nvSpPr>
        <p:spPr>
          <a:xfrm>
            <a:off x="3132000" y="1835280"/>
            <a:ext cx="3024360" cy="368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Degradación del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55" name="9 Rectángulo"/>
          <p:cNvSpPr/>
          <p:nvPr/>
        </p:nvSpPr>
        <p:spPr>
          <a:xfrm>
            <a:off x="1203480" y="2246400"/>
            <a:ext cx="194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Tasa finita de crecimiento de la población  </a:t>
            </a:r>
            <a:r>
              <a:rPr b="1" lang="es-ES" sz="1800" spc="-1" strike="noStrike">
                <a:solidFill>
                  <a:srgbClr val="c00000"/>
                </a:solidFill>
                <a:latin typeface="Franklin Gothic Book"/>
              </a:rPr>
              <a:t>decreciente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(λ)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es igual a 0, 94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745080" cy="21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7" name="Picture 7" descr=""/>
          <p:cNvPicPr/>
          <p:nvPr/>
        </p:nvPicPr>
        <p:blipFill>
          <a:blip r:embed="rId3"/>
          <a:stretch/>
        </p:blipFill>
        <p:spPr>
          <a:xfrm>
            <a:off x="395280" y="4292640"/>
            <a:ext cx="3560760" cy="203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8" name="14 Rectángulo"/>
          <p:cNvSpPr/>
          <p:nvPr/>
        </p:nvSpPr>
        <p:spPr>
          <a:xfrm>
            <a:off x="4572000" y="4707000"/>
            <a:ext cx="38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robabilidad de extinción (UIC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10-20 años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en 100 años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c00000"/>
                </a:solidFill>
                <a:latin typeface="Franklin Gothic Book"/>
              </a:rPr>
              <a:t>9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8:11:05Z</dcterms:created>
  <dc:creator>amaya</dc:creator>
  <dc:description/>
  <dc:language>en-US</dc:language>
  <cp:lastModifiedBy>amaya</cp:lastModifiedBy>
  <dcterms:modified xsi:type="dcterms:W3CDTF">2010-06-18T14:18:58Z</dcterms:modified>
  <cp:revision>37</cp:revision>
  <dc:subject/>
  <dc:title>Propuesta de restitución de Helianthemum poligoniodes en la reserva natural “saladar de cordovilla”</dc:title>
</cp:coreProperties>
</file>